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0760" y="1026720"/>
            <a:ext cx="49309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196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1120" y="102708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8200"/>
            <a:ext cx="27702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0640"/>
            <a:ext cx="860436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820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4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9360" y="349200"/>
            <a:ext cx="10090080" cy="357120"/>
          </a:xfrm>
          <a:prstGeom prst="roundRect">
            <a:avLst>
              <a:gd name="adj" fmla="val 444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0080720" cy="31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>
              <a:lnSpc>
                <a:spcPct val="93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ance Organizer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44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45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1193760" y="36180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4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60" y="368280"/>
            <a:ext cx="30456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4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45720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48" name="">
            <a:hlinkClick r:id="" action="ppaction://hlinkshowjump?jump=endshow"/>
          </p:cNvPr>
          <p:cNvSpPr/>
          <p:nvPr/>
        </p:nvSpPr>
        <p:spPr>
          <a:xfrm>
            <a:off x="9720360" y="7920"/>
            <a:ext cx="228600" cy="228600"/>
          </a:xfrm>
          <a:prstGeom prst="roundRect">
            <a:avLst>
              <a:gd name="adj" fmla="val 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57040" y="3576600"/>
            <a:ext cx="2562480" cy="39848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349200"/>
            <a:ext cx="10090080" cy="357120"/>
          </a:xfrm>
          <a:prstGeom prst="roundRect">
            <a:avLst>
              <a:gd name="adj" fmla="val 444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10080720" cy="31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>
              <a:lnSpc>
                <a:spcPct val="93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anced Organizer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44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53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1193760" y="36180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5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60" y="368280"/>
            <a:ext cx="30456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45720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56" name="">
            <a:hlinkClick r:id="" action="ppaction://hlinkshowjump?jump=endshow"/>
          </p:cNvPr>
          <p:cNvSpPr/>
          <p:nvPr/>
        </p:nvSpPr>
        <p:spPr>
          <a:xfrm>
            <a:off x="9747360" y="69840"/>
            <a:ext cx="228600" cy="228600"/>
          </a:xfrm>
          <a:prstGeom prst="roundRect">
            <a:avLst>
              <a:gd name="adj" fmla="val 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57040" y="3576600"/>
            <a:ext cx="2562480" cy="39848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58" name=""/>
          <p:cNvSpPr/>
          <p:nvPr/>
        </p:nvSpPr>
        <p:spPr>
          <a:xfrm>
            <a:off x="743040" y="1143000"/>
            <a:ext cx="4083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amtfunktion ein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nnstoffzellen-Gerä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2600" y="1996920"/>
            <a:ext cx="1440" cy="13399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49360" y="1994040"/>
            <a:ext cx="4101840" cy="61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717640" y="2104920"/>
            <a:ext cx="1828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9360" y="349200"/>
            <a:ext cx="10090080" cy="357120"/>
          </a:xfrm>
          <a:prstGeom prst="roundRect">
            <a:avLst>
              <a:gd name="adj" fmla="val 444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0080720" cy="31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>
              <a:lnSpc>
                <a:spcPct val="93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anced Organizer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44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65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1193760" y="36180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60" y="368280"/>
            <a:ext cx="30456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6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45720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9747360" y="69840"/>
            <a:ext cx="228600" cy="228600"/>
          </a:xfrm>
          <a:prstGeom prst="roundRect">
            <a:avLst>
              <a:gd name="adj" fmla="val 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57040" y="3576600"/>
            <a:ext cx="2562480" cy="39848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743040" y="1143000"/>
            <a:ext cx="4083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amtfunktion ein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nnstoffzellen-Gerä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3160" y="2724120"/>
            <a:ext cx="3962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ilfunktionen einzelner Kompon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52600" y="1996920"/>
            <a:ext cx="1440" cy="13399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9360" y="1994040"/>
            <a:ext cx="4101840" cy="61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006360" y="3676680"/>
            <a:ext cx="2692440" cy="14857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673600" y="3676680"/>
            <a:ext cx="3797280" cy="14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566040" y="863640"/>
            <a:ext cx="3022560" cy="1922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2717640" y="2104920"/>
            <a:ext cx="1828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349200"/>
            <a:ext cx="10090080" cy="357120"/>
          </a:xfrm>
          <a:prstGeom prst="roundRect">
            <a:avLst>
              <a:gd name="adj" fmla="val 444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0080720" cy="311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>
              <a:lnSpc>
                <a:spcPct val="93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anced Organizer 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244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81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1193760" y="36180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960" y="368280"/>
            <a:ext cx="30456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8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457200" y="368280"/>
            <a:ext cx="304920" cy="30492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84" name="">
            <a:hlinkClick r:id="" action="ppaction://hlinkshowjump?jump=endshow"/>
          </p:cNvPr>
          <p:cNvSpPr/>
          <p:nvPr/>
        </p:nvSpPr>
        <p:spPr>
          <a:xfrm>
            <a:off x="9747360" y="69840"/>
            <a:ext cx="228600" cy="228600"/>
          </a:xfrm>
          <a:prstGeom prst="roundRect">
            <a:avLst>
              <a:gd name="adj" fmla="val 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57040" y="3576600"/>
            <a:ext cx="2562480" cy="398484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sp>
        <p:nvSpPr>
          <p:cNvPr id="86" name=""/>
          <p:cNvSpPr/>
          <p:nvPr/>
        </p:nvSpPr>
        <p:spPr>
          <a:xfrm>
            <a:off x="743040" y="1143000"/>
            <a:ext cx="4083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samtfunktion eine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nnstoffzellen-Gerä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53160" y="2724120"/>
            <a:ext cx="39625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ilfunktionen einzelner Komponen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06960" y="6013440"/>
            <a:ext cx="35308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nnstoffzellentype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r- u. Nachte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52600" y="1996920"/>
            <a:ext cx="1440" cy="133992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49360" y="1994040"/>
            <a:ext cx="4101840" cy="612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06360" y="3676680"/>
            <a:ext cx="2692440" cy="148572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06720" y="6870600"/>
            <a:ext cx="6464160" cy="180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73600" y="3676680"/>
            <a:ext cx="3797280" cy="1440"/>
          </a:xfrm>
          <a:prstGeom prst="line">
            <a:avLst/>
          </a:prstGeom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6566040" y="863640"/>
            <a:ext cx="3022560" cy="1922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7993080" y="4292640"/>
            <a:ext cx="1392120" cy="166356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>
                <a:alpha val="45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717640" y="2104920"/>
            <a:ext cx="1828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ersorgung</cp:lastModifiedBy>
  <cp:revision>0</cp:revision>
  <dc:subject/>
  <dc:title>PowerPoint-Präsentation</dc:title>
</cp:coreProperties>
</file>